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6051-A19F-46DC-888C-F8C8EA014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BC0F-FD99-4465-B1E2-D167181D3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6A16-8C75-4F4A-A489-300B8C38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973A-9A2E-49F0-8859-9213BBCB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7FD0-926B-48E9-B38F-3BD6D984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77C2-864C-46FB-997B-4470D5BB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8D47-6826-4089-B4D7-A2DD235B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6CF2-86BF-41B0-9E81-EA492643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FFF5-6D02-4C9C-B15A-D4038590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177-E734-4510-90E0-3A7625C3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0701-86CD-4DBA-AD91-77E43D43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1CE1-636F-4B5E-9719-27239D34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D48F-D551-4421-B2FD-73AC0370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AEF2-BCA8-4F53-8582-AC6A34A3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6D3F-8DB8-4280-8547-A704B041D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43240" y="914040"/>
            <a:ext cx="2514600" cy="26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 and effect ess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bagjoke.jpg"/>
          <p:cNvPicPr/>
          <p:nvPr/>
        </p:nvPicPr>
        <p:blipFill>
          <a:blip r:embed="rId1"/>
          <a:stretch/>
        </p:blipFill>
        <p:spPr>
          <a:xfrm>
            <a:off x="0" y="152280"/>
            <a:ext cx="5651640" cy="650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762120" y="380880"/>
            <a:ext cx="8001000" cy="71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ment.  Select a prompt and develop a flow chart of the causes /effe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mple prom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can power test a person’s character?  What Is the effect of power on a person’s charac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 of a parent, teacher, or friend on your lif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s of cramming for an exam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s of peer pres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some students che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s of growing up with a personal compu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s of poverty on an individ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one college course is more rewarding than ano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many people don't bother to vote in local ele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s of racial, sexual, or religious discrim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peopl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people keep p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s of computers on our everyday l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some people choose not to carry a cell ph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vironmental effects of bottled wa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reality shows are so pop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304920" y="533520"/>
            <a:ext cx="8839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s of pressures on students to get good gr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s of a coach or teammate on your lif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s of not keeping a personal bud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so few students read newspap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baseball is no longer the national pas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s of stress on students in high school or colle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s of moving to a new town or 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growing numbers of people shop on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s of the steady increase in the cost of going to colle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students drop out of high school or colle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some roommates don't get alo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many teenagers run away from h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nfluence of a book or a movie on your lif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s of music downloading on the music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Diagram 1" descr=""/>
          <p:cNvPicPr/>
          <p:nvPr/>
        </p:nvPicPr>
        <p:blipFill>
          <a:blip r:embed="rId1"/>
          <a:stretch/>
        </p:blipFill>
        <p:spPr>
          <a:xfrm>
            <a:off x="450720" y="590400"/>
            <a:ext cx="8321760" cy="574992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990720" y="2286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ence practice on sentence s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Diagram 1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1371600" y="5335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ence begin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Diagram 2" descr=""/>
          <p:cNvPicPr/>
          <p:nvPr/>
        </p:nvPicPr>
        <p:blipFill>
          <a:blip r:embed="rId1"/>
          <a:stretch/>
        </p:blipFill>
        <p:spPr>
          <a:xfrm>
            <a:off x="1139760" y="725400"/>
            <a:ext cx="65660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auseEffect.gif"/>
          <p:cNvPicPr/>
          <p:nvPr/>
        </p:nvPicPr>
        <p:blipFill>
          <a:blip r:embed="rId1"/>
          <a:stretch/>
        </p:blipFill>
        <p:spPr>
          <a:xfrm>
            <a:off x="685800" y="1066680"/>
            <a:ext cx="780408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 1" descr=""/>
          <p:cNvPicPr/>
          <p:nvPr/>
        </p:nvPicPr>
        <p:blipFill>
          <a:blip r:embed="rId1"/>
          <a:stretch/>
        </p:blipFill>
        <p:spPr>
          <a:xfrm>
            <a:off x="1504800" y="987480"/>
            <a:ext cx="7658280" cy="5877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905120" y="380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tions for cause and effect es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143000" y="533520"/>
            <a:ext cx="7238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aragraph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a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debata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pic sentence.  Without debate or controversy, you will hit a wall when trying to elaborate on a de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must be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details from your own experienc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bservations, and other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detail must be accompanied by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elaboration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know as commentary, opinion and analysi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methods of development may be inclu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609480" y="380880"/>
            <a:ext cx="7772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a favorite teacher and complete this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r./Mrs. __________ is a _____________teac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5029200" y="27432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ba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609480" y="4038480"/>
            <a:ext cx="769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 this with one or two sentences of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opin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out how that detail shows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u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topic senten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your opinion sentences to show me it’s opinion.  (don’t do this on the t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4"/>
          <p:cNvSpPr/>
          <p:nvPr/>
        </p:nvSpPr>
        <p:spPr>
          <a:xfrm>
            <a:off x="152280" y="762120"/>
            <a:ext cx="92966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graph 1 Intro (3 sentences, no more than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the EVENT to be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any necessary background information about th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is statement (sets up the outline or structure for the pap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“ Three effects of … on 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Rectangle 6" descr=""/>
          <p:cNvPicPr/>
          <p:nvPr/>
        </p:nvPicPr>
        <p:blipFill>
          <a:blip r:embed="rId1"/>
          <a:stretch/>
        </p:blipFill>
        <p:spPr>
          <a:xfrm>
            <a:off x="6095880" y="3828960"/>
            <a:ext cx="30783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4" descr=""/>
          <p:cNvPicPr/>
          <p:nvPr/>
        </p:nvPicPr>
        <p:blipFill>
          <a:blip r:embed="rId1"/>
          <a:stretch/>
        </p:blipFill>
        <p:spPr>
          <a:xfrm>
            <a:off x="438120" y="225360"/>
            <a:ext cx="8278920" cy="590724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4114800" y="5638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33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aragraph 2 Body (4-6 sentences)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a sentence that identifies the first effect of the even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 2-3 sentences of detail or explanation about the effec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itional sentence using a cause/effect transition word from th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Rectangle 4" descr=""/>
          <p:cNvPicPr/>
          <p:nvPr/>
        </p:nvPicPr>
        <p:blipFill>
          <a:blip r:embed="rId1"/>
          <a:stretch/>
        </p:blipFill>
        <p:spPr>
          <a:xfrm>
            <a:off x="3780000" y="3090960"/>
            <a:ext cx="491940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aragraph 3 Body (4-6 sentences)</a:t>
            </a:r>
            <a:br>
              <a:rPr sz="3200"/>
            </a:b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a sentence that identifies the second effect of the event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2-3 sentences of detail or explanation about the effect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itional sentence using another (different)  cause/effect transition word from the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s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Rectangle 3" descr=""/>
          <p:cNvPicPr/>
          <p:nvPr/>
        </p:nvPicPr>
        <p:blipFill>
          <a:blip r:embed="rId1"/>
          <a:stretch/>
        </p:blipFill>
        <p:spPr>
          <a:xfrm>
            <a:off x="3986280" y="4889520"/>
            <a:ext cx="45972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457200" y="609480"/>
            <a:ext cx="8001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graph 4 Body (4-6 sentences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sentence that identifies the third effect of the event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2-3 sentences of detail or explanation about the effect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al sentence using different cause/effect transition word from the li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Rectangle 4" descr=""/>
          <p:cNvPicPr/>
          <p:nvPr/>
        </p:nvPicPr>
        <p:blipFill>
          <a:blip r:embed="rId1"/>
          <a:stretch/>
        </p:blipFill>
        <p:spPr>
          <a:xfrm>
            <a:off x="6729480" y="5346720"/>
            <a:ext cx="223848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4"/>
          <p:cNvSpPr/>
          <p:nvPr/>
        </p:nvSpPr>
        <p:spPr>
          <a:xfrm>
            <a:off x="685800" y="457200"/>
            <a:ext cx="8153280" cy="58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ragraph 5 - Concluding paragraph (2-3 sente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ate your thesis but use different words (do not copy word for w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following ways to END your e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Admonition or instru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 reader can do about the iss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Arial"/>
              </a:rPr>
              <a:t>Predic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sight into how the future might be different, better or wo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Strong, punched stat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haps a one-sentence paragraph with powerful mea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Arial"/>
              </a:rPr>
              <a:t>Anecdot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rief history that reiterates the essence of the issue or situa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Pointed question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ves the reader thin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Arial"/>
              </a:rPr>
              <a:t>Echo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les back to the 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tangle 5" descr=""/>
          <p:cNvPicPr/>
          <p:nvPr/>
        </p:nvPicPr>
        <p:blipFill>
          <a:blip r:embed="rId1"/>
          <a:stretch/>
        </p:blipFill>
        <p:spPr>
          <a:xfrm>
            <a:off x="5278320" y="1835280"/>
            <a:ext cx="3329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5715000" y="685800"/>
            <a:ext cx="2819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usal essay formu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PavlovFreudCartoon.jpg"/>
          <p:cNvPicPr/>
          <p:nvPr/>
        </p:nvPicPr>
        <p:blipFill>
          <a:blip r:embed="rId1"/>
          <a:stretch/>
        </p:blipFill>
        <p:spPr>
          <a:xfrm>
            <a:off x="457200" y="304920"/>
            <a:ext cx="487692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304920" y="2286000"/>
            <a:ext cx="845820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ragraph 1 Intro (3 sentences, no more than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e the EVENT to be discu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 any necessary background information about the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is statement (sets up the outline or structure for the pap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“ There are many causes of 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Rectangle 2" descr=""/>
          <p:cNvPicPr/>
          <p:nvPr/>
        </p:nvPicPr>
        <p:blipFill>
          <a:blip r:embed="rId1"/>
          <a:stretch/>
        </p:blipFill>
        <p:spPr>
          <a:xfrm>
            <a:off x="2060640" y="695160"/>
            <a:ext cx="50227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380880" y="2286000"/>
            <a:ext cx="80773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agraph 2 Body (4-6 sente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sentence that identifies the first cause of the event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 2-3 sentences of detail or explanation about the caus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al sentence using a cause/effect transition word from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Rectangle 3" descr=""/>
          <p:cNvPicPr/>
          <p:nvPr/>
        </p:nvPicPr>
        <p:blipFill>
          <a:blip r:embed="rId1"/>
          <a:stretch/>
        </p:blipFill>
        <p:spPr>
          <a:xfrm>
            <a:off x="3754440" y="506520"/>
            <a:ext cx="32623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80880" y="1674720"/>
            <a:ext cx="838224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ragraph 3 Body (4-6 sentences)</a:t>
            </a:r>
            <a:br>
              <a:rPr sz="2000"/>
            </a:b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sentence that identifies the second cause of the event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2-3 sentences of detail or explanation about the caus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al sentence using another (different)  cause/effect transition word from the l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Rectangle 3" descr=""/>
          <p:cNvPicPr/>
          <p:nvPr/>
        </p:nvPicPr>
        <p:blipFill>
          <a:blip r:embed="rId1"/>
          <a:stretch/>
        </p:blipFill>
        <p:spPr>
          <a:xfrm>
            <a:off x="3754440" y="506520"/>
            <a:ext cx="32623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457200" y="1996920"/>
            <a:ext cx="8229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ragraph 4 Body (4-6 sentences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sentence that identifies the third cause of the event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2-3 sentences of detail or explanation about the caus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al sentence using different cause/effect transition word from the l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3754440" y="506520"/>
            <a:ext cx="32623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228600" y="228600"/>
            <a:ext cx="89154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ragraph 5 - Concluding paragraph (2-3 sente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ate your thesis but use different words (do not copy word for w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following ways to END your e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Admonition or instru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 reader can do about the iss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Arial"/>
              </a:rPr>
              <a:t>Predic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sight into how the future might be different, better or wo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Strong, punched stat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haps a one-sentence paragraph with powerful mea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Arial"/>
              </a:rPr>
              <a:t>Anecdot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rief history that reiterates the essence of the issue or sit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Pointed question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ves the reader thin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Arial"/>
              </a:rPr>
              <a:t>Echo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les back to the 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"/>
          <p:cNvPicPr/>
          <p:nvPr/>
        </p:nvPicPr>
        <p:blipFill>
          <a:blip r:embed="rId1"/>
          <a:stretch/>
        </p:blipFill>
        <p:spPr>
          <a:xfrm>
            <a:off x="407880" y="1596960"/>
            <a:ext cx="8375760" cy="453564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3733920" y="4648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 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533520" y="46483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tributory 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6629400" y="4648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Diagram 1" descr=""/>
          <p:cNvPicPr/>
          <p:nvPr/>
        </p:nvPicPr>
        <p:blipFill>
          <a:blip r:embed="rId1"/>
          <a:stretch/>
        </p:blipFill>
        <p:spPr>
          <a:xfrm>
            <a:off x="115920" y="365040"/>
            <a:ext cx="9058320" cy="6201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3429000" y="5257800"/>
            <a:ext cx="5715000" cy="6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alter’s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ange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defines him.  His inability to tolerate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any other emo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causes him to be cruel to his fami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"/>
          <p:cNvPicPr/>
          <p:nvPr/>
        </p:nvPicPr>
        <p:blipFill>
          <a:blip r:embed="rId1"/>
          <a:stretch/>
        </p:blipFill>
        <p:spPr>
          <a:xfrm>
            <a:off x="378000" y="146160"/>
            <a:ext cx="8315280" cy="598644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6095880" y="4572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048120" y="3429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mediate 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648320" y="1981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mote 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in of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"/>
          <p:cNvPicPr/>
          <p:nvPr/>
        </p:nvPicPr>
        <p:blipFill>
          <a:blip r:embed="rId1"/>
          <a:stretch/>
        </p:blipFill>
        <p:spPr>
          <a:xfrm>
            <a:off x="438120" y="1566720"/>
            <a:ext cx="826776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cause and effect ess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important to as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OW not WH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ause and effect 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It makes clear the causes or effects of the situation you are discuss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25406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54061"/>
                </a:solidFill>
                <a:latin typeface="Calibri"/>
              </a:rPr>
              <a:t>It tells your position on the relative importance of the cau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t makes clear the order in which you will discuss the causes or effect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04560" y="1904760"/>
            <a:ext cx="8839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en deciding to cheat most students do not seriously consider effects like getting the wrong answers, losing a teacher’s trust, and compromising academic hon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3657600" y="48006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mple thesis for cause and effect e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Diagram 1" descr=""/>
          <p:cNvPicPr/>
          <p:nvPr/>
        </p:nvPicPr>
        <p:blipFill>
          <a:blip r:embed="rId1"/>
          <a:stretch/>
        </p:blipFill>
        <p:spPr>
          <a:xfrm>
            <a:off x="652320" y="1200240"/>
            <a:ext cx="8126640" cy="410364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380880" y="5562720"/>
            <a:ext cx="792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Focus on HOW….not wh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2743200" y="30492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ganize your cause and effect e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3:26:18Z</dcterms:created>
  <dc:creator>adamscp</dc:creator>
  <dc:description/>
  <dc:language>en-US</dc:language>
  <cp:lastModifiedBy>adamscp</cp:lastModifiedBy>
  <dcterms:modified xsi:type="dcterms:W3CDTF">2008-02-26T15:33:06Z</dcterms:modified>
  <cp:revision>31</cp:revision>
  <dc:subject/>
  <dc:title>Cause and effect essays</dc:title>
</cp:coreProperties>
</file>